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06B-72FE-4F29-908C-D64FAC9F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FEF-30D6-421A-86A5-462D6088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595-FB2C-474E-9D47-30E0C577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E83-DDF0-4B20-9215-29E6D5E7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54D-C2AD-4FCB-988A-A27B5A2E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9F8-F00D-475F-8633-E2575CA7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BA6-5120-4B5C-A31E-8EEEADBE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747-5C20-4122-BD4C-A8B1238A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E3D-8809-49D8-A089-08129080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50A-192C-427E-8788-F57A3BEA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82E-0AB1-483D-9F19-1AB66117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DC8-0F45-44F0-ACE6-0DBFA575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4C73-D652-4592-9632-17223DE3D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8120" y="754200"/>
            <a:ext cx="18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2:28:06Z</dcterms:created>
  <dc:creator>Patrick J. Mooney</dc:creator>
  <dc:description/>
  <dc:language>en-US</dc:language>
  <cp:lastModifiedBy>Patrick J. Mooney</cp:lastModifiedBy>
  <dcterms:modified xsi:type="dcterms:W3CDTF">2011-12-01T02:30:17Z</dcterms:modified>
  <cp:revision>2</cp:revision>
  <dc:subject/>
  <dc:title>Slide 1</dc:title>
</cp:coreProperties>
</file>